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842-CDBC-4756-8FD8-B032525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789-E6C4-4F60-B4DA-4170EA9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A99-8815-4118-85F9-94787AB9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81A-673E-445C-8A0E-3210E8B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E2E-0C99-4E79-8D63-AD7EC19C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285-7E13-4CBE-9E9E-C9DC1FB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E06-BD4E-4B79-9DAA-ED36E70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AA5-995A-470A-8D17-992E633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EC3-D782-4C8E-BC47-7FA60E9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329-237A-48F4-87A8-D8A489A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0C5-6105-4A23-8634-1CFD44E1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62A-3CDC-4909-8984-23D71B3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8A6-74A8-45E1-9926-F585F8A3E7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-sys.kek.jp/tech/sitcp/&#65289;&#12290;MAC" TargetMode="External"/><Relationship Id="rId2" Type="http://schemas.openxmlformats.org/officeDocument/2006/relationships/hyperlink" Target="http://e-sys.kek.jp/tech/sitcp/&#65289;&#12290;MAC" TargetMode="External"/><Relationship Id="rId3" Type="http://schemas.openxmlformats.org/officeDocument/2006/relationships/hyperlink" Target="http://e-sys.kek.jp/tech/sitcp/&#65289;&#12290;MAC" TargetMode="External"/><Relationship Id="rId4" Type="http://schemas.openxmlformats.org/officeDocument/2006/relationships/hyperlink" Target="http://e-sys.kek.jp/tech/sitcp/&#65289;&#12290;MAC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モジュールの開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物構研：中性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佐藤節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高電圧電源カタロ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3"/>
          <p:cNvSpPr/>
          <p:nvPr/>
        </p:nvSpPr>
        <p:spPr>
          <a:xfrm>
            <a:off x="3061800" y="61498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高圧電源モジュールを買ってき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12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与えれば簡単に高電圧が発生す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1"/>
          <a:stretch/>
        </p:blipFill>
        <p:spPr>
          <a:xfrm>
            <a:off x="939960" y="1197000"/>
            <a:ext cx="74926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工夫したところ１：手動と遠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324000" y="127620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手動は半固定抵抗を回し、遠隔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で設定する。両立するために、</a:t>
            </a:r>
            <a:r>
              <a:rPr b="1" lang="en-US" sz="2400" spc="-1" strike="noStrike">
                <a:solidFill>
                  <a:srgbClr val="363bf4"/>
                </a:solidFill>
                <a:latin typeface="Calibri"/>
              </a:rPr>
              <a:t>DAC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で出力をオープ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できるタイプを使用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3"/>
          <p:cNvSpPr/>
          <p:nvPr/>
        </p:nvSpPr>
        <p:spPr>
          <a:xfrm>
            <a:off x="3851280" y="127620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電源投入時はオープンで手動で設定できる。ネットワーク越しに設定したときの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有効にできる。手動に戻すことも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付近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出力が低抵抗で負けてしまうので、</a:t>
            </a:r>
            <a:r>
              <a:rPr b="0" lang="ja-JP" sz="2000" spc="-1" strike="noStrike">
                <a:solidFill>
                  <a:srgbClr val="363bf4"/>
                </a:solidFill>
                <a:latin typeface="Calibri"/>
              </a:rPr>
              <a:t>手動設定範囲を狭めた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~1500V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＞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~1500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図 2" descr=""/>
          <p:cNvPicPr/>
          <p:nvPr/>
        </p:nvPicPr>
        <p:blipFill>
          <a:blip r:embed="rId1"/>
          <a:stretch/>
        </p:blipFill>
        <p:spPr>
          <a:xfrm>
            <a:off x="1187280" y="3214800"/>
            <a:ext cx="69850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工夫したところ２：電圧読み出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3"/>
          <p:cNvSpPr/>
          <p:nvPr/>
        </p:nvSpPr>
        <p:spPr>
          <a:xfrm>
            <a:off x="684360" y="14954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＋電源と－電源の切り替えは高電圧発生モジュールを変えることで対処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3"/>
          <p:cNvSpPr/>
          <p:nvPr/>
        </p:nvSpPr>
        <p:spPr>
          <a:xfrm>
            <a:off x="4048200" y="149544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入出力絶縁モジュールを使用して、切り替える方式も考えられるが、素人が安全に扱うために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単純化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した。小型にしやす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読み出し回路では、極性に対応して、反転か非反転を選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図 3" descr=""/>
          <p:cNvPicPr/>
          <p:nvPr/>
        </p:nvPicPr>
        <p:blipFill>
          <a:blip r:embed="rId1"/>
          <a:stretch/>
        </p:blipFill>
        <p:spPr>
          <a:xfrm>
            <a:off x="971640" y="3076560"/>
            <a:ext cx="7127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ネットワークからのアクセ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5"/>
          <p:cNvSpPr/>
          <p:nvPr/>
        </p:nvSpPr>
        <p:spPr>
          <a:xfrm>
            <a:off x="755640" y="123660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C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独立に使用できる。</a:t>
            </a:r>
            <a:r>
              <a:rPr b="0" lang="en-US" sz="2000" spc="-1" strike="noStrike">
                <a:solidFill>
                  <a:srgbClr val="363bf4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使用した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で規定されているアドレス空間の割り当てで設定と読み出し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バイト配置し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その他に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測定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用時刻カウンターを装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SiTCP-HV-UDP表"/>
          <p:cNvPicPr/>
          <p:nvPr/>
        </p:nvPicPr>
        <p:blipFill>
          <a:blip r:embed="rId1"/>
          <a:stretch/>
        </p:blipFill>
        <p:spPr>
          <a:xfrm>
            <a:off x="709560" y="4005360"/>
            <a:ext cx="3260880" cy="1860480"/>
          </a:xfrm>
          <a:prstGeom prst="rect">
            <a:avLst/>
          </a:prstGeom>
          <a:ln w="0">
            <a:noFill/>
          </a:ln>
        </p:spPr>
      </p:pic>
      <p:sp>
        <p:nvSpPr>
          <p:cNvPr id="103" name="テキスト ボックス 5"/>
          <p:cNvSpPr/>
          <p:nvPr/>
        </p:nvSpPr>
        <p:spPr>
          <a:xfrm>
            <a:off x="4140360" y="119700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VIEW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から制御できる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指定した場合（デフォルト）、パネルの半固定抵抗が有効になる。どちらの設定でも、出力している高電圧は常時読み出せ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2"/>
          <a:stretch/>
        </p:blipFill>
        <p:spPr>
          <a:xfrm>
            <a:off x="4753080" y="2606760"/>
            <a:ext cx="3316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中性子実験便利機能の付加：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絶対時刻付加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信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5"/>
          <p:cNvSpPr/>
          <p:nvPr/>
        </p:nvSpPr>
        <p:spPr>
          <a:xfrm>
            <a:off x="1392120" y="5373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測定用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を付けた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がつながれていない場合、自動的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を作り出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でない原子炉等でも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用処理装置を使用できるようにな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2" descr=""/>
          <p:cNvPicPr/>
          <p:nvPr/>
        </p:nvPicPr>
        <p:blipFill>
          <a:blip r:embed="rId1"/>
          <a:stretch/>
        </p:blipFill>
        <p:spPr>
          <a:xfrm>
            <a:off x="1407960" y="1628640"/>
            <a:ext cx="4886640" cy="2981520"/>
          </a:xfrm>
          <a:prstGeom prst="rect">
            <a:avLst/>
          </a:prstGeom>
          <a:ln w="0">
            <a:noFill/>
          </a:ln>
        </p:spPr>
      </p:pic>
      <p:cxnSp>
        <p:nvCxnSpPr>
          <p:cNvPr id="108" name="直線矢印コネクタ 7"/>
          <p:cNvCxnSpPr/>
          <p:nvPr/>
        </p:nvCxnSpPr>
        <p:spPr>
          <a:xfrm flipV="1">
            <a:off x="2499840" y="4303080"/>
            <a:ext cx="361080" cy="494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テキスト ボックス 28"/>
          <p:cNvSpPr/>
          <p:nvPr/>
        </p:nvSpPr>
        <p:spPr>
          <a:xfrm>
            <a:off x="2836080" y="485928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測定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信号の入力、出力端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中性子実験便利機能の付加：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絶対時刻付加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信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5"/>
          <p:cNvSpPr/>
          <p:nvPr/>
        </p:nvSpPr>
        <p:spPr>
          <a:xfrm>
            <a:off x="395280" y="159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に不可欠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に時刻を付加することができるようにした。イベントデータ収集モードで使用すると、絶対時刻を入れ込むことができるようにな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5"/>
          <p:cNvSpPr/>
          <p:nvPr/>
        </p:nvSpPr>
        <p:spPr>
          <a:xfrm>
            <a:off x="3780000" y="1593720"/>
            <a:ext cx="50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で設定した。装置時刻相対カウンターの値をカウントアップして現時刻を常に持ちながら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に最新時刻を付加していく。入力がオープンの場合、自励発振する。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少ないゲート数で役に立つ機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追加しやすい。ワンチップマイコンでは難し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14" descr="C:\実験データ\各学会＆会議発表\国際会議\TIPP09\GATENET_output.TIF"/>
          <p:cNvPicPr/>
          <p:nvPr/>
        </p:nvPicPr>
        <p:blipFill>
          <a:blip r:embed="rId1"/>
          <a:stretch/>
        </p:blipFill>
        <p:spPr>
          <a:xfrm>
            <a:off x="539640" y="3659040"/>
            <a:ext cx="465624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0" descr="25Hz全体#2"/>
          <p:cNvPicPr/>
          <p:nvPr/>
        </p:nvPicPr>
        <p:blipFill>
          <a:blip r:embed="rId2"/>
          <a:stretch/>
        </p:blipFill>
        <p:spPr>
          <a:xfrm>
            <a:off x="5292720" y="3914640"/>
            <a:ext cx="304812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使用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5"/>
          <p:cNvSpPr/>
          <p:nvPr/>
        </p:nvSpPr>
        <p:spPr>
          <a:xfrm>
            <a:off x="673200" y="1403280"/>
            <a:ext cx="29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数種類のシンチレータの特性を測る場合などに、シンチレータによって違う最適電圧を探るのに便利である。</a:t>
            </a:r>
            <a:r>
              <a:rPr b="0" lang="ja-JP" sz="2000" spc="-1" strike="noStrike">
                <a:solidFill>
                  <a:srgbClr val="363bf4"/>
                </a:solidFill>
                <a:latin typeface="Calibri"/>
              </a:rPr>
              <a:t>自動測定も可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run47_Li6_1mm"/>
          <p:cNvPicPr/>
          <p:nvPr/>
        </p:nvPicPr>
        <p:blipFill>
          <a:blip r:embed="rId1"/>
          <a:stretch/>
        </p:blipFill>
        <p:spPr>
          <a:xfrm>
            <a:off x="900000" y="3278160"/>
            <a:ext cx="2505240" cy="1190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LiCAF_Li6_PHA"/>
          <p:cNvPicPr/>
          <p:nvPr/>
        </p:nvPicPr>
        <p:blipFill>
          <a:blip r:embed="rId2"/>
          <a:stretch/>
        </p:blipFill>
        <p:spPr>
          <a:xfrm>
            <a:off x="3875040" y="1413000"/>
            <a:ext cx="2817720" cy="186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LiCAF_PHA"/>
          <p:cNvPicPr/>
          <p:nvPr/>
        </p:nvPicPr>
        <p:blipFill>
          <a:blip r:embed="rId3"/>
          <a:stretch/>
        </p:blipFill>
        <p:spPr>
          <a:xfrm>
            <a:off x="3851280" y="344808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un53_LiCAF_2p5mm"/>
          <p:cNvPicPr/>
          <p:nvPr/>
        </p:nvPicPr>
        <p:blipFill>
          <a:blip r:embed="rId4"/>
          <a:stretch/>
        </p:blipFill>
        <p:spPr>
          <a:xfrm>
            <a:off x="900000" y="4724280"/>
            <a:ext cx="2552760" cy="14954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"/>
          <p:cNvSpPr/>
          <p:nvPr/>
        </p:nvSpPr>
        <p:spPr>
          <a:xfrm>
            <a:off x="6875640" y="14130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横軸が波高分布の場合、高電圧を変えることでゲインが変えられ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に替わり、</a:t>
            </a:r>
            <a:r>
              <a:rPr b="1" lang="en-US" sz="3200" spc="-1" strike="noStrike">
                <a:solidFill>
                  <a:srgbClr val="363bf4"/>
                </a:solidFill>
                <a:latin typeface="Calibri"/>
              </a:rPr>
              <a:t>SiTCP-VME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変換モジュール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開発しているが、その空きスペースに高電圧電源を取り付け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電圧電源の設計は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単純な構成で完全シール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心掛け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パネル前の手動設定とネットワーク越しの遠隔設定が共存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実験ごとの役に立つ機能（ワンチップマイコンでは難しい）を追加しやす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発表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は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か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モジュール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電圧電源部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プログラム：ネットワークからの制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使用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3b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中性子検出器において、高圧電源は必要不可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り、特に検出器開発においては、頻繁に電圧を変える必要があるので、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遠隔操作できる電源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がほしかっ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昨年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開発の発表を行っている。スペース的に余裕があり、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少ないゲート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できる高圧電源の開発が最適であっ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内田智久氏が開発した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使用しないでネットワークを高速に、低消費に使用する技術である。日本中の高エネルギー物理実験分野で非常に多く採用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ベンチャーが無償管理している（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-sys.kek.jp/tech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itc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ja-JP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PG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ライブラリー形式でダウンロードできる。開発はこれだけで可能。完成品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アドレスは有料。また、変換基板の形でも販売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図 3" descr=""/>
          <p:cNvPicPr/>
          <p:nvPr/>
        </p:nvPicPr>
        <p:blipFill>
          <a:blip r:embed="rId1"/>
          <a:stretch/>
        </p:blipFill>
        <p:spPr>
          <a:xfrm>
            <a:off x="1835280" y="1184400"/>
            <a:ext cx="6422760" cy="417672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4"/>
          <p:cNvSpPr/>
          <p:nvPr/>
        </p:nvSpPr>
        <p:spPr>
          <a:xfrm>
            <a:off x="2711520" y="5445000"/>
            <a:ext cx="42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他の用途の</a:t>
            </a:r>
            <a:r>
              <a:rPr b="1" lang="en-US" sz="2000" spc="-1" strike="noStrike">
                <a:solidFill>
                  <a:srgbClr val="363bf4"/>
                </a:solidFill>
                <a:latin typeface="Calibri"/>
              </a:rPr>
              <a:t>VME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基板のおまけの機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して設計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手半田できるように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QG144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パッケージを選ん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89960" y="22780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5"/>
          <p:cNvCxnSpPr/>
          <p:nvPr/>
        </p:nvCxnSpPr>
        <p:spPr>
          <a:xfrm>
            <a:off x="1695240" y="2631960"/>
            <a:ext cx="1502280" cy="140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テキスト ボックス 8"/>
          <p:cNvSpPr/>
          <p:nvPr/>
        </p:nvSpPr>
        <p:spPr>
          <a:xfrm>
            <a:off x="491760" y="317196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83C1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B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直線矢印コネクタ 9"/>
          <p:cNvCxnSpPr/>
          <p:nvPr/>
        </p:nvCxnSpPr>
        <p:spPr>
          <a:xfrm>
            <a:off x="1757160" y="3398760"/>
            <a:ext cx="166284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テキスト ボックス 14"/>
          <p:cNvSpPr/>
          <p:nvPr/>
        </p:nvSpPr>
        <p:spPr>
          <a:xfrm>
            <a:off x="690480" y="1525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15"/>
          <p:cNvCxnSpPr>
            <a:stCxn id="56" idx="3"/>
          </p:cNvCxnSpPr>
          <p:nvPr/>
        </p:nvCxnSpPr>
        <p:spPr>
          <a:xfrm flipV="1">
            <a:off x="1695240" y="1412640"/>
            <a:ext cx="1076760" cy="29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図 2" descr=""/>
          <p:cNvPicPr/>
          <p:nvPr/>
        </p:nvPicPr>
        <p:blipFill>
          <a:blip r:embed="rId1"/>
          <a:stretch/>
        </p:blipFill>
        <p:spPr>
          <a:xfrm>
            <a:off x="2050920" y="1204920"/>
            <a:ext cx="6237360" cy="380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3083040" y="5445000"/>
            <a:ext cx="26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bf4"/>
                </a:solidFill>
                <a:latin typeface="Calibri"/>
              </a:rPr>
              <a:t>SiTCP-VME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専用の基板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開発し、空いた空間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電圧電源を取り付け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8"/>
          <p:cNvSpPr/>
          <p:nvPr/>
        </p:nvSpPr>
        <p:spPr>
          <a:xfrm>
            <a:off x="7186320" y="5045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圧電源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1"/>
          <p:cNvSpPr/>
          <p:nvPr/>
        </p:nvSpPr>
        <p:spPr>
          <a:xfrm>
            <a:off x="3924360" y="1413000"/>
            <a:ext cx="4392720" cy="381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SiTCP-HVブロック図"/>
          <p:cNvPicPr/>
          <p:nvPr/>
        </p:nvPicPr>
        <p:blipFill>
          <a:blip r:embed="rId1"/>
          <a:stretch/>
        </p:blipFill>
        <p:spPr>
          <a:xfrm>
            <a:off x="488880" y="1557360"/>
            <a:ext cx="7920000" cy="447984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8"/>
          <p:cNvSpPr/>
          <p:nvPr/>
        </p:nvSpPr>
        <p:spPr>
          <a:xfrm>
            <a:off x="3247560" y="600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追加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円/楕円 6"/>
          <p:cNvSpPr/>
          <p:nvPr/>
        </p:nvSpPr>
        <p:spPr>
          <a:xfrm>
            <a:off x="3059280" y="3933720"/>
            <a:ext cx="5616360" cy="2262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2" descr=""/>
          <p:cNvPicPr/>
          <p:nvPr/>
        </p:nvPicPr>
        <p:blipFill>
          <a:blip r:embed="rId1"/>
          <a:stretch/>
        </p:blipFill>
        <p:spPr>
          <a:xfrm>
            <a:off x="833400" y="1150920"/>
            <a:ext cx="6018120" cy="3673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構成の説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10"/>
          <p:cNvSpPr/>
          <p:nvPr/>
        </p:nvSpPr>
        <p:spPr>
          <a:xfrm>
            <a:off x="6859800" y="3260880"/>
            <a:ext cx="189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として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5V1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電源で動作さ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ることが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高電圧電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CP/IP 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手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30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最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0.7m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も可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11"/>
          <p:cNvSpPr/>
          <p:nvPr/>
        </p:nvSpPr>
        <p:spPr>
          <a:xfrm>
            <a:off x="3129840" y="494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液晶表示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12"/>
          <p:cNvCxnSpPr/>
          <p:nvPr/>
        </p:nvCxnSpPr>
        <p:spPr>
          <a:xfrm flipH="1" flipV="1">
            <a:off x="3665160" y="4282560"/>
            <a:ext cx="115200" cy="64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テキスト ボックス 16"/>
          <p:cNvSpPr/>
          <p:nvPr/>
        </p:nvSpPr>
        <p:spPr>
          <a:xfrm>
            <a:off x="4452120" y="492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直線矢印コネクタ 17"/>
          <p:cNvCxnSpPr/>
          <p:nvPr/>
        </p:nvCxnSpPr>
        <p:spPr>
          <a:xfrm flipV="1">
            <a:off x="4500720" y="4291920"/>
            <a:ext cx="18144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直線矢印コネクタ 19"/>
          <p:cNvCxnSpPr/>
          <p:nvPr/>
        </p:nvCxnSpPr>
        <p:spPr>
          <a:xfrm flipH="1">
            <a:off x="5219280" y="2349000"/>
            <a:ext cx="1729440" cy="28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テキスト ボックス 22"/>
          <p:cNvSpPr/>
          <p:nvPr/>
        </p:nvSpPr>
        <p:spPr>
          <a:xfrm>
            <a:off x="7175160" y="179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発生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23"/>
          <p:cNvSpPr/>
          <p:nvPr/>
        </p:nvSpPr>
        <p:spPr>
          <a:xfrm>
            <a:off x="7090200" y="2124000"/>
            <a:ext cx="130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500V, 1mA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, 0.7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取り付け可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直線矢印コネクタ 24"/>
          <p:cNvCxnSpPr/>
          <p:nvPr/>
        </p:nvCxnSpPr>
        <p:spPr>
          <a:xfrm flipV="1">
            <a:off x="2626920" y="4291920"/>
            <a:ext cx="36108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テキスト ボックス 28"/>
          <p:cNvSpPr/>
          <p:nvPr/>
        </p:nvSpPr>
        <p:spPr>
          <a:xfrm>
            <a:off x="1902240" y="49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動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線矢印コネクタ 30"/>
          <p:cNvCxnSpPr/>
          <p:nvPr/>
        </p:nvCxnSpPr>
        <p:spPr>
          <a:xfrm flipH="1">
            <a:off x="5651280" y="1566360"/>
            <a:ext cx="1248480" cy="15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テキスト ボックス 32"/>
          <p:cNvSpPr/>
          <p:nvPr/>
        </p:nvSpPr>
        <p:spPr>
          <a:xfrm>
            <a:off x="7040160" y="1332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動作可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4"/>
          <p:cNvSpPr/>
          <p:nvPr/>
        </p:nvSpPr>
        <p:spPr>
          <a:xfrm>
            <a:off x="3413160" y="5438880"/>
            <a:ext cx="26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から制御できなくても、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自立して動作する設計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心がけ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電源も、広く使われてい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アダプタで使用でき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高電圧電源部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3"/>
          <p:cNvSpPr/>
          <p:nvPr/>
        </p:nvSpPr>
        <p:spPr>
          <a:xfrm>
            <a:off x="3418920" y="5661000"/>
            <a:ext cx="24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素人の高電圧回路は非常に危険なので、できるだけ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単純な構成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し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完璧にアース面で囲われた空間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内に閉じ込め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SiTCP-HV_v3_HV"/>
          <p:cNvPicPr/>
          <p:nvPr/>
        </p:nvPicPr>
        <p:blipFill>
          <a:blip r:embed="rId1"/>
          <a:stretch/>
        </p:blipFill>
        <p:spPr>
          <a:xfrm>
            <a:off x="816120" y="1224000"/>
            <a:ext cx="7643520" cy="336564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2403720" y="4775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圧は浮いたパッドだけ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面は完全グランド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6377760" y="47926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電源モジュール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ースにしっかりはんだ付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直線矢印コネクタ 2"/>
          <p:cNvCxnSpPr/>
          <p:nvPr/>
        </p:nvCxnSpPr>
        <p:spPr>
          <a:xfrm flipV="1">
            <a:off x="3708360" y="3860280"/>
            <a:ext cx="504000" cy="915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" name="直線矢印コネクタ 14"/>
          <p:cNvCxnSpPr/>
          <p:nvPr/>
        </p:nvCxnSpPr>
        <p:spPr>
          <a:xfrm flipH="1" flipV="1">
            <a:off x="7481160" y="3644280"/>
            <a:ext cx="330840" cy="1097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0:53:09Z</dcterms:created>
  <dc:creator>windows7</dc:creator>
  <dc:description/>
  <dc:language>en-US</dc:language>
  <cp:lastModifiedBy>Satoh</cp:lastModifiedBy>
  <dcterms:modified xsi:type="dcterms:W3CDTF">2014-03-13T00:41:04Z</dcterms:modified>
  <cp:revision>106</cp:revision>
  <dc:subject/>
  <dc:title>SiTCP-VME変換モジュールの開発</dc:title>
</cp:coreProperties>
</file>